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7C2-5E9B-4C90-93F7-F46CEA39B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91F0-A1E6-49BB-B9FB-6F8EFB2E4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EA1-58B0-4BD7-AED8-A3199D27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D6C-A93E-4230-AF75-092E425A5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C13C-470A-4D39-B59C-639ADD44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B904-A836-4CD7-BB01-D3EB96B7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4B20-59B5-4E7C-9839-EA925D1B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CA22-EA9A-4383-9272-73BC5570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E7D7-F7AD-49F7-8B59-036BDB8F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5A62-6D0C-41D9-9057-ED0410A8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B18E-56D2-4570-A86C-2942845A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2EBA-77A6-4CC7-A17E-2F367F106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918A8-A3FE-4E9F-9040-8C9E3A942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B9CD-ADE9-4B3D-8298-7DC64515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C4A2-2986-4A5A-A441-B9591F2B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C280-2512-4D36-BBCD-D6ED38C9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3AE9-61CB-47A2-93C0-984101A21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72C-801E-4D76-A77A-E2FCEA9D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F6CE-04D2-4387-AB67-4C6CE0DC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C79E-A173-4553-BCA0-3BC93598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034B-080C-46D3-9E28-EE2D680D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27D-6307-430D-9B19-E340FD26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B8EA-384F-4B43-82C4-5ED57A4A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4AC-7E4C-48A9-921A-74F4F13D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4F3D-4DE1-440E-8BD9-64B588432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026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1027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1028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29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30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31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32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033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4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35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36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37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8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39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40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41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42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43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44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45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46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047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48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49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50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051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52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53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54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55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56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057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58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059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60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61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62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63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64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65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66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7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68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9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70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71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072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073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074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75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76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77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078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079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080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81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082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083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084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85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86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87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088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9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090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7691-0389-4361-88E9-995497658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762120" y="6172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orking In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ndard Parachute Compan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16480" y="2209680"/>
            <a:ext cx="382752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ti they manufactured parachutes until after the w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4863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828440" y="2590920"/>
            <a:ext cx="4437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 was part of the war effort more than most states. These facilities brought jobs to Utahans as well as PROSP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Utah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was inland, from the coasts so 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open spaces fo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good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is rich in 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well-educated labo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already had defense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avajo Code-talker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ed a secret till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he Navajo language to pa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de the Japanese couldn’t 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Ws in UTAH!!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and Italian POWs were sent to O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in camp they constructed, repaired building, worked in warehouses, prepared food in kitchens, farmed, built ski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gden Arsenal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86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343040" y="609120"/>
            <a:ext cx="44370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s a reserve de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the war it turned into a factory of war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casings and black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-22896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ill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76201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20840" y="380880"/>
            <a:ext cx="44370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manufacturing and storage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Corps sent damaged, broken, or defective airplanes to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809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647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garrison- air corps came to protect and train for new jobs- SPECIFICALLY PI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7090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orage Facil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723920" y="1676160"/>
            <a:ext cx="37515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bombs and ammu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Lake City, Ogden, Clearfield, and Too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28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ndover 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629040" y="2666880"/>
            <a:ext cx="19810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 the pilots who dropped the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727280"/>
            <a:ext cx="5765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gway Proving Ground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d Deseret Chemical Depo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 chemical warfar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17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4:26:18Z</dcterms:created>
  <dc:creator>PSD</dc:creator>
  <dc:description/>
  <dc:language>en-US</dc:language>
  <cp:lastModifiedBy>Christiana Forbush</cp:lastModifiedBy>
  <cp:lastPrinted>2008-01-31T18:20:55Z</cp:lastPrinted>
  <dcterms:modified xsi:type="dcterms:W3CDTF">2010-05-03T16:27:51Z</dcterms:modified>
  <cp:revision>20</cp:revision>
  <dc:subject/>
  <dc:title>PowerPoint Presentation</dc:title>
</cp:coreProperties>
</file>